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8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.png" ContentType="image/png"/>
  <Override PartName="/ppt/media/image3.pct" ContentType="image/x-pict"/>
  <Override PartName="/ppt/media/image11.png" ContentType="image/png"/>
  <Override PartName="/ppt/media/image4.pct" ContentType="image/x-pict"/>
  <Override PartName="/ppt/media/image12.png" ContentType="image/png"/>
  <Override PartName="/ppt/media/image5.pct" ContentType="image/x-pict"/>
  <Override PartName="/ppt/media/image13.png" ContentType="image/png"/>
  <Override PartName="/ppt/media/image6.pct" ContentType="image/x-pict"/>
  <Override PartName="/ppt/media/image9.png" ContentType="image/png"/>
  <Override PartName="/ppt/media/image7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C717-C55F-41CB-90EA-D18EA098C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g the grapes seeds and garden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69F0-489C-49AA-B1F3-CA3D8410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ABDC-3EE4-4F48-AB4E-397DAF6B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2B2E-A044-461E-99DA-FBEA6E99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C51F-0813-44B0-A1FA-80F6FDFD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EA4C-E04D-46D9-81EE-4EC4D8E9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7A86-3465-4C1F-85B2-FD58061E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0C88-35DD-4358-8246-F72B561E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C806-DB54-47D7-BA01-62F9FD63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E83C-DC5D-4BCF-BF95-EB8FC1CD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9BF8-8CCE-4C1D-925A-96AC6C43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655D-2330-4E1A-915F-0C78697B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3AAA-47FA-42AF-ACC5-7F8CD708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09F7-001E-439C-A66C-31D12CDC3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image" Target="../media/image7.pct"/><Relationship Id="rId5" Type="http://schemas.openxmlformats.org/officeDocument/2006/relationships/image" Target="../media/image8.pct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hyperlink" Target="http://my.nctm.org/eresources/view_article.asp?article_id=6430&amp;page=1" TargetMode="External"/><Relationship Id="rId3" Type="http://schemas.openxmlformats.org/officeDocument/2006/relationships/hyperlink" Target="http://my.nctm.org/eresources/view_article.asp?article_id=6430&amp;page=1" TargetMode="External"/><Relationship Id="rId4" Type="http://schemas.openxmlformats.org/officeDocument/2006/relationships/hyperlink" Target="http://my.nctm.org/eresources/view_article.asp?article_id=6430&amp;page=1" TargetMode="External"/><Relationship Id="rId5" Type="http://schemas.openxmlformats.org/officeDocument/2006/relationships/hyperlink" Target="http://my.nctm.org/eresources/view_article.asp?article_id=6430&amp;page=1" TargetMode="External"/><Relationship Id="rId6" Type="http://schemas.openxmlformats.org/officeDocument/2006/relationships/hyperlink" Target="http://my.nctm.org/eresources/view_article.asp?article_id=6430&amp;page=1" TargetMode="External"/><Relationship Id="rId7" Type="http://schemas.openxmlformats.org/officeDocument/2006/relationships/hyperlink" Target="http://my.nctm.org/eresources/view_article.asp?article_id=6430&amp;page=1" TargetMode="External"/><Relationship Id="rId8" Type="http://schemas.openxmlformats.org/officeDocument/2006/relationships/hyperlink" Target="http://my.nctm.org/eresources/view_article.asp?article_id=6430&amp;page=1" TargetMode="External"/><Relationship Id="rId9" Type="http://schemas.openxmlformats.org/officeDocument/2006/relationships/hyperlink" Target="http://my.nctm.org/eresources/view_article.asp?article_id=6430&amp;page=1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17760" y="1628640"/>
            <a:ext cx="6108480" cy="1270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171880" y="3429000"/>
            <a:ext cx="4500360" cy="2276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262080"/>
            <a:ext cx="4000680" cy="104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36080" y="6035760"/>
            <a:ext cx="74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ON-Math Winter 2003 | Volume 2, Numbe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adly, as of 2012, ON-Math is no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440" y="639720"/>
            <a:ext cx="788364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cepts?              Or          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66880" y="1944720"/>
            <a:ext cx="3810240" cy="3225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36680" y="1552680"/>
            <a:ext cx="2062080" cy="1550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811920" y="2552760"/>
            <a:ext cx="2332080" cy="1752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375680" y="3576600"/>
            <a:ext cx="1404720" cy="1878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46040" y="3767040"/>
            <a:ext cx="2032200" cy="173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87320" y="5743440"/>
            <a:ext cx="73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ut which should be introduced first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learns mor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why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cedu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str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5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ceptual Instr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3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08040" y="6162840"/>
            <a:ext cx="2577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ersek and Kirshner, 200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cept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str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3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0840" y="464832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cedural: memorization and routine application of formu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0520" y="5230800"/>
            <a:ext cx="85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nceptual: constructing relationships through concrete materials, questioning, communications and 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8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s it matter which comes first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cedural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ceptual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809640" y="3879720"/>
                <a:ext cx="31478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656240" y="3557520"/>
                <a:ext cx="11379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1930320" y="2597040"/>
            <a:ext cx="52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ed numbers vs. Improper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734080" y="3429000"/>
            <a:ext cx="2495520" cy="1276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0" y="4719600"/>
            <a:ext cx="3006720" cy="125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791480" y="5022720"/>
                <a:ext cx="10684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538200" y="3429000"/>
            <a:ext cx="3767040" cy="17589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3429000"/>
            <a:ext cx="4425840" cy="27385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8200" y="3429000"/>
            <a:ext cx="3767040" cy="17683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3429000"/>
            <a:ext cx="4425840" cy="2736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8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s it matter which comes first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cedural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ceptual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447920" y="3344760"/>
                <a:ext cx="1868400" cy="20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¸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759200" y="3557520"/>
                <a:ext cx="9302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1930320" y="2597040"/>
            <a:ext cx="52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ed numbers vs. Improper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758000" y="5022720"/>
                <a:ext cx="1136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914400" y="3271680"/>
            <a:ext cx="3089160" cy="2195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3429000"/>
            <a:ext cx="4425840" cy="28782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23760" y="3289320"/>
            <a:ext cx="3124440" cy="220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749920" y="3627360"/>
            <a:ext cx="1701720" cy="1327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068880" y="4908600"/>
            <a:ext cx="1562400" cy="1317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rcRect l="11398" t="9890" r="0" b="0"/>
          <a:stretch/>
        </p:blipFill>
        <p:spPr>
          <a:xfrm>
            <a:off x="7950240" y="3768840"/>
            <a:ext cx="939600" cy="833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60840" y="3429000"/>
            <a:ext cx="4425840" cy="2876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7120" y="5467320"/>
            <a:ext cx="3944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l, doe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0080" y="1492200"/>
            <a:ext cx="7747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8560" y="6364440"/>
            <a:ext cx="3270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tud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37440" cy="25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cedu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sson and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weeks later,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weeks later,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nceptu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sson and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weeks later,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2400" y="4659480"/>
            <a:ext cx="81374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ost  procedural change in scores: -2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ost conceptual change in scores: -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chel’s experienc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178080" y="1941480"/>
            <a:ext cx="2787840" cy="2100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86960" y="5917680"/>
            <a:ext cx="756756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y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ctm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rg/eresources/view_article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asp?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article_id=6430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&amp;page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9"/>
          </p:cNvPr>
          <p:cNvSpPr/>
          <p:nvPr/>
        </p:nvSpPr>
        <p:spPr>
          <a:xfrm>
            <a:off x="3898800" y="4392720"/>
            <a:ext cx="1346400" cy="1236600"/>
          </a:xfrm>
          <a:custGeom>
            <a:avLst/>
            <a:gdLst>
              <a:gd name="textAreaLeft" fmla="*/ 79920 w 1346400"/>
              <a:gd name="textAreaRight" fmla="*/ 1266480 w 1346400"/>
              <a:gd name="textAreaTop" fmla="*/ 79920 h 1236600"/>
              <a:gd name="textAreaBottom" fmla="*/ 1156680 h 1236600"/>
            </a:gdLst>
            <a:ahLst/>
            <a:rect l="textAreaLeft" t="textAreaTop" r="textAreaRight" b="textAreaBottom"/>
            <a:pathLst>
              <a:path w="23517" h="21600">
                <a:moveTo>
                  <a:pt x="0" y="0"/>
                </a:moveTo>
                <a:lnTo>
                  <a:pt x="23517" y="0"/>
                </a:lnTo>
                <a:lnTo>
                  <a:pt x="23517" y="21600"/>
                </a:lnTo>
                <a:lnTo>
                  <a:pt x="0" y="21600"/>
                </a:lnTo>
                <a:close/>
              </a:path>
              <a:path fill="lightenLess" w="23517" h="21600">
                <a:moveTo>
                  <a:pt x="0" y="0"/>
                </a:moveTo>
                <a:lnTo>
                  <a:pt x="23517" y="0"/>
                </a:lnTo>
                <a:lnTo>
                  <a:pt x="22117" y="1400"/>
                </a:lnTo>
                <a:lnTo>
                  <a:pt x="1400" y="1400"/>
                </a:lnTo>
                <a:close/>
              </a:path>
              <a:path fill="darken" w="23517" h="21600">
                <a:moveTo>
                  <a:pt x="23517" y="0"/>
                </a:moveTo>
                <a:lnTo>
                  <a:pt x="23517" y="21600"/>
                </a:lnTo>
                <a:lnTo>
                  <a:pt x="22117" y="20200"/>
                </a:lnTo>
                <a:lnTo>
                  <a:pt x="22117" y="1400"/>
                </a:lnTo>
                <a:close/>
              </a:path>
              <a:path fill="darkenLess" w="23517" h="21600">
                <a:moveTo>
                  <a:pt x="235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17" y="20200"/>
                </a:lnTo>
                <a:close/>
              </a:path>
              <a:path fill="lighten" w="235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27120" y="422280"/>
            <a:ext cx="788976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0:24:59Z</dcterms:created>
  <dc:creator>Mark Roddy</dc:creator>
  <dc:description/>
  <dc:language>en-US</dc:language>
  <cp:lastModifiedBy>Mark Roddy User</cp:lastModifiedBy>
  <dcterms:modified xsi:type="dcterms:W3CDTF">2015-10-04T19:58:41Z</dcterms:modified>
  <cp:revision>18</cp:revision>
  <dc:subject/>
  <dc:title>Go to http://my.nctm.org/eresources/ and click “On-Math”</dc:title>
</cp:coreProperties>
</file>